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E97E-68B5-4F74-8E83-31C02D76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07EC-88A8-4FFE-9FB4-F2FCDAC8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0342-1CDF-4C6E-9280-735E5C7A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A5A5-4E71-48D2-90CD-EB48CB19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4AD3-A2D2-4B7F-B152-AE5EC1A7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F0E-4B1A-4724-B0FD-FE100144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CC64-85ED-4813-B373-5A35EC95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88B6-B1B9-4BB7-9F08-6FC0F5C5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6F65-B1D4-44FD-8AFC-131063FD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076F-FF9E-445F-A47A-2838B3CC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19C5-E364-4723-A5FF-28C722C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431E-3E10-410D-9395-5B7334AA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6C58-4102-4B15-BD7C-5D605468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6741-148F-423A-8658-EFE68F2E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D9BE-0E30-4CB8-9EFB-DDD6B559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3A08-5D71-4E54-B5D8-914264CC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375C-DE7F-4CB8-8928-00AC227A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E4DC-4B40-4286-A15E-BC6F5231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D242-CDCC-41F3-AEBB-C3D4F108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563D-AEA1-4E43-B944-C0ADD1B8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A13F-D801-4507-9C4F-0515785D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0C43-7A67-4908-9E20-A03B1F1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F4CC-30A9-4762-884B-FA01C33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9F7B-5D49-44E0-B410-9A8BEAE4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12BD-F19A-42E5-A85B-83B0C43356C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23CC-258C-43EF-9AED-4D5EEEFD36C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57240"/>
            <a:ext cx="95774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  <a:ea typeface="Arial"/>
              </a:rPr>
              <a:t>244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  <a:ea typeface="Arial"/>
              </a:rPr>
              <a:t>99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же наш, ние Теб се моли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отив злото да се бори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молбата ни да чуеш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с сполука увенчаеш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7400"/>
            <a:ext cx="10082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молба ние ще повтори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тината да говори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то на светиите в древно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Ти служим ние със ревнос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14200" y="240120"/>
            <a:ext cx="9577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стоянно да се моли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уморно да се труди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подвизи непостижим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Духа Си подкрепи 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 ни успех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1-06T16:15:06Z</dcterms:modified>
  <cp:revision>180</cp:revision>
  <dc:subject/>
  <dc:title>Slide 1</dc:title>
</cp:coreProperties>
</file>